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981-D842-4559-BD17-BD8744ED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A94A-C86A-4DE0-94FF-96D107BB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05BBC-6D7B-4EA9-BCD1-F0FD6ED3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E0517-EF60-4032-A244-4181C6AB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E5ACC-366E-415B-8A34-F12A2AD3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C99AB-AEF0-41E5-9CD8-041CF5CD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68A9C-FAD2-4386-98BB-E7F22028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CC5A9-E978-4CEC-99BA-7FF4121B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8C5CC-6705-4782-AEB6-E33095C7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4EC48-78C6-485E-8B9E-FE8623F9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2F1BB-1D20-432E-A9E9-A80583F1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EF949-D44A-460F-854E-C2F2A796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E2C1-81CA-44DB-8950-802E224F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F5E7D-3F92-4D7C-8037-CC6EA82E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07461-0631-4726-8BE9-E17E78D3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9DC5E-0224-4448-94E0-F3915E6E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E8D82-1591-4D1A-BFCF-B22E5A7F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020FC-E58A-4C9A-A0A4-BD0AC72A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90296-E264-4D52-B11E-AF1DEB42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F11C1-1939-4E28-8E9D-82E54782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CEDD1-BECB-44FE-99E3-A0BC923D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F4F4B-4B7D-4D61-A984-7AA58B7A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BBB20-B623-4B30-A00A-7FBE14EA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1826-99B5-402A-BFA1-42068B5E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F3431-E141-4FFE-91CF-B6AECBF6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33862-E4BA-4DA6-9407-45026561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B9C95-7B9B-45EA-8A58-C7D1F1A2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4C103-EE9A-4C24-BB17-56A90521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A6B37-8406-4316-B14B-C536C766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1BF15-1A30-43BC-95FD-2E4A106C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2C479-EE08-4E11-AEAC-A3B7CE2D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38DB1-542D-4F33-81EC-87E61A13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3FF96-CDF2-4BE9-AA65-A277BF16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68919-F1BB-4A73-A659-47EBB055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B117-1EA1-4BBA-8C4E-24246672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64E5D-2E0B-434F-BF5F-EA254ACA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414C6-D9A7-4706-AB96-0BF7AE71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996BC-FF57-49DD-9806-33928D2E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5678E-11AB-486F-9C4D-65DDE71D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42DCB-0B14-4AC3-9E73-C7C31D6F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87954-6DD0-4AF7-BB2A-2F980F05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4288A-79BB-4BE8-A4BD-D8EF0954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87175-DCA7-40B7-9860-E978387B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E7204-9C06-4125-BA5F-8D59E466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571D5-558D-4C41-9D8E-A2E89F6B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072C-FCCA-4E5F-B328-8DFF8E2B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BAF09-2F76-4097-BA1C-1E5BB782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64261-B444-4699-A5D8-0810EEFC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2C9DA-81F1-4019-97B0-A0A4F9A7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09551-2026-44A5-987D-9432A432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933B4-70D6-4CBD-95E8-DF6A9FA8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FB45-A68C-49F0-9F97-7710D7AB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3DBA-2D9B-4745-B67B-37C28CD4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DA60-2A2F-473F-8C29-8123DD86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086F-D39F-476E-82BA-29156FD9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0E76-89F0-430D-B819-8F4DEEAC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981-D669-4978-A87D-A98EDDC8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B77C-1381-4E9E-B9BA-BC41B43E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15E9-3FC9-44EE-A06F-66464A85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4269-DDB7-492D-9EE0-73C1F79F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A122-A6C6-4A5A-85D7-A0FDBC6A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8F9E-10E1-4567-90AD-ABDFB3DB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2301B-9640-496A-837F-06E2A8D8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71A2D-95B0-4B46-A329-F8F504A9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37930-6017-4091-8AD6-8D7A56B9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91EB9-85F1-4961-9557-687DE41A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02F3D-ED65-4351-86A6-7F7361D4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94DC-478E-4B6F-A5B2-884F6EE0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BED22-73D5-43ED-89FE-96FD007D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E316C-833E-41AA-A0CD-9B30168C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9D11D-98EC-4965-8AC9-B5E34060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6FC64-221A-41B7-BB88-92DF17DB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CBAFC-D043-42F2-94C4-FB129084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4D868-F368-4C8B-839C-13ABDD0E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676AF-5B90-41D8-B38C-202BC779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A2CE0-1B1C-4C64-8315-54377E3E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FBF26-9A4B-42A8-A405-8F6F8E99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36A96-6763-44A0-80FC-CBCCB792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D17-B41D-488C-90CD-0491091B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E75F4-4948-45F5-9DD5-8F1CFA39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D6B3E-D763-4D0F-9DB5-713011D8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446D5-6898-4F18-A81B-29780E22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D571C-E6EB-4F11-855C-DDA9C53E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D9711-C24A-4C4C-A7C8-8699D11F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9F170-5427-418B-ACCC-D305BB8B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0EB5D-4F96-49FE-BF2F-687E4EE9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A9F64-C92C-44B6-A5C5-B6E2B8AB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62D75-1E87-4639-A78F-2F1B3F76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AC00E-BA96-4D9B-926A-97958F3D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FD2-0F4B-48B0-A9DD-43FA8102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E59D6-2683-42C3-B71C-3429C375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D64FA-9A95-445D-B6DE-FFE4ECFE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129C7-471B-4119-A5FD-84E6823E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754CE-DCD1-4101-B1F6-909C16BF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F4723-8495-4074-B0CA-22A2645B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23083-1A9E-4E2A-B251-3D2820CE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FFED8-E6A7-4ABD-8FB8-C5C96C52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91074-FA49-4CCC-B70E-AC1FB8A5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78CC6-E20B-4A46-8BB0-7B596193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43B9B-3D4A-4876-8E2F-42BC44E0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41FE-5E95-4CDF-B8FE-A23DC87B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2DD40-CF60-45D8-94F4-E6E311A4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94CAE-5BFC-402B-820B-266B9625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59740-D7D4-408F-8E01-33CFACB9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6D227-133A-4DBB-95A5-256C80EB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7AA36-5A91-4CDA-87DF-58FD0995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E19D3-94A7-4647-ADD4-E1B4A1DA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5C993-6865-4EDE-9EE9-9295CC1D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5C6E0-3184-4B89-8EAC-F3D6CC33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05AC2-AB33-4044-8A13-E7158FF0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A2027-9A03-4072-9BF5-D67BE92A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D83-8456-4F29-BB2B-62E19323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C6E3C-E18A-4681-9C0E-BC45763A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2C3A6-724D-4DC9-950B-9C79A247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3F6A4-F106-4D3C-BF51-4037B74F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66206-184A-41AC-AD03-9A141819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27620-1B6E-4C4A-9315-7E490E4C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6DAB3-8E38-4362-9891-A2A3796F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40014-3219-441E-BC04-AF5A65FB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A918E-AFD5-4BF7-BB15-C522B888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0960D-A3BE-4558-A18F-DB05A804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17417-256F-48D8-81D9-30CBC0C8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26A1-4409-438B-91D0-68134CA6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7CBDC-C4A0-4062-A1A2-B733129A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16B1D-856F-4F3F-A0D5-6C03A015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9E0BD-D854-4D27-A3FB-70FD68DB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8F1F0-7F55-4C64-BF0D-81BB2076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D188A-E8E3-4C3B-84A8-77A41689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60759-8821-44C5-9203-3857303E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02001-2289-4F86-9F7A-960ABBFC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ED47B-2132-4C35-8DAC-F3288FA2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37B78-80A3-4A79-BBC6-84303F9C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E5B96-D1C3-4257-B7CB-D801A975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9E32-96F7-48A6-93C0-ACEC96A8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98E7C-1549-491B-8D7A-E33EC5E2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6C2A1-3CB4-4708-A3C2-699012C7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2EC5F-4644-42EE-AC9C-7E72EA7B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5C5C5-CD2D-486E-AB81-D8835EC5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62A55-5796-4C76-A676-06A24DA4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451A9-AFEF-43DD-80D3-7BD32FBF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2EE4F-F76C-477C-A14C-DF5EBC7F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DBF17-26A2-479B-807D-8DC4679E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E8490-4A88-40B7-BE90-45D98C55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51E31-2E8B-4693-A8A3-4264DE40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FE8B-1E2E-48E4-99BC-A71B0B0DBB13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712A-C2A8-4989-9529-14944DA9B09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A4E9-496B-44D2-BECE-B555247EE696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150A-12BF-403A-9101-15B11563EB6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61F9-E631-449C-8E5C-3D11069686CE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5F4D-CE5B-4F4B-A432-6F12421D773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571B-392C-4DD6-A0BE-DA9FC79FA627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AED9-DA26-4484-BB7F-E206450C047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0635-B453-43E4-8C13-A4482A1F30FE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DD1A-A63E-4624-AB85-0FF8C15EDFA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2A20-8B23-43F3-9CA7-E6AF7866299E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D516-3B75-497B-9A2D-0077833AF17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0FEA-DF05-45C3-A235-6FDFB099189E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57BF-7CD5-438A-8A03-AF319DE83B5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8356-4F91-40F4-91E3-0E70B48CC5B3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0700-B668-433F-8A83-AC35438E414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31AD-4969-4A0F-9A17-255281EA79D4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BA37-86D1-44E8-B856-14FD7597099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F17C-283E-402D-A713-4A9B9F34B1A2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C26E-7804-427C-9849-BCB7D7C0E7F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CC45-59A1-4783-A85D-7615C1531F5F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2FA0-3211-4520-A928-251E1428F1D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AF01-A419-472F-965D-50390B66801D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955C-B1E1-4FC4-93A1-A1ED6568D3D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aike.baidu.com/view/587353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image/32bb9c8b071d53fcfd1f101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d9d8ec"/>
                </a:solidFill>
                <a:latin typeface="Arial"/>
              </a:rPr>
              <a:t>爬山虎的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原来爬山虎是有脚的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599840"/>
            <a:ext cx="8218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长在茎上。茎上长叶柄的地方，反面伸出枝状的六七根细丝，每根细丝像蜗牛的触角。细丝跟新叶子一样，也是嫩红的。这就是爬山虎的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生长的地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的样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的颜色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5" descr="d5f0aba0f77ff29c46106412"/>
          <p:cNvPicPr/>
          <p:nvPr/>
        </p:nvPicPr>
        <p:blipFill>
          <a:blip r:embed="rId1"/>
          <a:stretch/>
        </p:blipFill>
        <p:spPr>
          <a:xfrm>
            <a:off x="5364000" y="3500280"/>
            <a:ext cx="352908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原来爬山虎是有脚的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50920" y="1599840"/>
            <a:ext cx="83534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长在茎上。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茎上长叶柄的地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伸出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枝状的六七根细丝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根细丝像蜗牛的触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细丝跟新叶子一样，也是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嫩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。这就是爬山虎的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生长的地方：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茎上长叶柄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的样子：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枝状的六七根细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的颜色：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嫩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7" descr="d5f0aba0f77ff29c46106412"/>
          <p:cNvPicPr/>
          <p:nvPr/>
        </p:nvPicPr>
        <p:blipFill>
          <a:blip r:embed="rId1"/>
          <a:stretch/>
        </p:blipFill>
        <p:spPr>
          <a:xfrm>
            <a:off x="7294680" y="2955960"/>
            <a:ext cx="1392120" cy="149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这</a:t>
            </a:r>
            <a:r>
              <a:rPr b="1" lang="zh-CN" sz="3800" spc="-1" strike="noStrike">
                <a:solidFill>
                  <a:srgbClr val="0066ff"/>
                </a:solidFill>
                <a:latin typeface="Arial"/>
              </a:rPr>
              <a:t>就是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爬山虎的脚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5" descr="4886860_142642926307_2"/>
          <p:cNvPicPr/>
          <p:nvPr/>
        </p:nvPicPr>
        <p:blipFill>
          <a:blip r:embed="rId1"/>
          <a:srcRect l="0" t="0" r="883" b="5632"/>
          <a:stretch/>
        </p:blipFill>
        <p:spPr>
          <a:xfrm>
            <a:off x="457200" y="1600200"/>
            <a:ext cx="806436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8" descr="3414854417455389061"/>
          <p:cNvPicPr/>
          <p:nvPr/>
        </p:nvPicPr>
        <p:blipFill>
          <a:blip r:embed="rId1"/>
          <a:stretch/>
        </p:blipFill>
        <p:spPr>
          <a:xfrm>
            <a:off x="0" y="3429000"/>
            <a:ext cx="4427640" cy="34290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四自然段主要讲什么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066920" y="1412640"/>
            <a:ext cx="4825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触着墙的时候，六七根细丝的头上就变成小圆片，巴住墙。细丝原先是直的，现在弯曲了，把爬山虎的嫩茎拉一把，使它紧贴在墙上。爬山虎就是这样一脚一脚地往上爬。如果你仔细看那些细小的脚，你会想起图画上蛟龙的爪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1047c1bbf56b8bf6ff64f45d41ae62e4"/>
          <p:cNvPicPr/>
          <p:nvPr/>
        </p:nvPicPr>
        <p:blipFill>
          <a:blip r:embed="rId2"/>
          <a:stretch/>
        </p:blipFill>
        <p:spPr>
          <a:xfrm>
            <a:off x="0" y="0"/>
            <a:ext cx="4427640" cy="32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第四自然段主要讲什么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68360" y="1483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触着墙的时候，六七根细丝的头上就变成小圆片，巴住墙。细丝原先是直的，现在弯曲了，把爬山虎的嫩茎拉一把，使它紧贴在墙上。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爬山虎就是这样一脚一脚地往上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如果你仔细看那些细小的脚，你会想起图画上蛟龙的爪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6" descr="1047c1bbf56b8bf6ff64f45d41ae62e4"/>
          <p:cNvPicPr/>
          <p:nvPr/>
        </p:nvPicPr>
        <p:blipFill>
          <a:blip r:embed="rId1"/>
          <a:stretch/>
        </p:blipFill>
        <p:spPr>
          <a:xfrm>
            <a:off x="5364000" y="4508640"/>
            <a:ext cx="3156120" cy="2160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7" descr="3414854417455389061"/>
          <p:cNvPicPr/>
          <p:nvPr/>
        </p:nvPicPr>
        <p:blipFill>
          <a:blip r:embed="rId2"/>
          <a:stretch/>
        </p:blipFill>
        <p:spPr>
          <a:xfrm>
            <a:off x="324000" y="4581360"/>
            <a:ext cx="41036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第四自然段主要讲什么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68360" y="1483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墙的时候，六七根细丝的头上就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小圆片，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住墙。细丝原先是直的，现在弯曲了，把爬山虎的嫩茎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把，使它紧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墙上。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爬山虎就是这样一脚一脚地往上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爬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你仔细看那些细小的脚，你会想起图画上蛟龙的爪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6" descr="1047c1bbf56b8bf6ff64f45d41ae62e4"/>
          <p:cNvPicPr/>
          <p:nvPr/>
        </p:nvPicPr>
        <p:blipFill>
          <a:blip r:embed="rId1"/>
          <a:stretch/>
        </p:blipFill>
        <p:spPr>
          <a:xfrm>
            <a:off x="5364000" y="4508640"/>
            <a:ext cx="3156120" cy="21603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7" descr="3414854417455389061"/>
          <p:cNvPicPr/>
          <p:nvPr/>
        </p:nvPicPr>
        <p:blipFill>
          <a:blip r:embed="rId2"/>
          <a:stretch/>
        </p:blipFill>
        <p:spPr>
          <a:xfrm>
            <a:off x="755640" y="4581360"/>
            <a:ext cx="41036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第四自然段主要讲什么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68360" y="1483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墙的时候，六七根细丝的头上就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小圆片，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住墙。细丝原先是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直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现在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弯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，把爬山虎的嫩茎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把，使它紧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墙上。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爬山虎就是这样一脚一脚地往上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爬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你仔细看那些细小的脚，你会想起图画上蛟龙的爪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5" descr="1047c1bbf56b8bf6ff64f45d41ae62e4"/>
          <p:cNvPicPr/>
          <p:nvPr/>
        </p:nvPicPr>
        <p:blipFill>
          <a:blip r:embed="rId1"/>
          <a:stretch/>
        </p:blipFill>
        <p:spPr>
          <a:xfrm>
            <a:off x="5580000" y="4468680"/>
            <a:ext cx="3156120" cy="21607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3414854417455389061"/>
          <p:cNvPicPr/>
          <p:nvPr/>
        </p:nvPicPr>
        <p:blipFill>
          <a:blip r:embed="rId2"/>
          <a:stretch/>
        </p:blipFill>
        <p:spPr>
          <a:xfrm>
            <a:off x="971640" y="4581360"/>
            <a:ext cx="410364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5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5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5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第四自然段主要讲什么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68360" y="1196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墙的时候，六七根细丝的头上就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小圆片，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住墙。细丝原先是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直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现在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弯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，把爬山虎的嫩茎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把，使它紧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墙上。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爬山虎就是这样一脚一脚地往上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爬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如果你仔细看那些细小的脚，你会想起图画上蛟龙的爪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1047c1bbf56b8bf6ff64f45d41ae62e4"/>
          <p:cNvPicPr/>
          <p:nvPr/>
        </p:nvPicPr>
        <p:blipFill>
          <a:blip r:embed="rId1"/>
          <a:stretch/>
        </p:blipFill>
        <p:spPr>
          <a:xfrm>
            <a:off x="5580000" y="4468680"/>
            <a:ext cx="3156120" cy="216072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5"/>
          <p:cNvSpPr/>
          <p:nvPr/>
        </p:nvSpPr>
        <p:spPr>
          <a:xfrm>
            <a:off x="755640" y="45813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画线的句子，把（         ）比作（           ）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写出了爬山虎的脚的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形状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同时也表达出了作者对爬山虎的脚的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喜爱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最后一段主要讲什么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06728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爬山虎的脚（    ）没触着墙，不几天（    ）萎了，后来连（    ）也没有了。触着墙的，细丝和小圆片（     ）变成灰色。不要（     ）那些灰色的脚，那些脚巴在墙上相当（    ），（    ）你的手指不费一点儿劲，（      ）拉下爬山虎的一根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5" descr="111348036252803"/>
          <p:cNvPicPr/>
          <p:nvPr/>
        </p:nvPicPr>
        <p:blipFill>
          <a:blip r:embed="rId1"/>
          <a:stretch/>
        </p:blipFill>
        <p:spPr>
          <a:xfrm>
            <a:off x="324000" y="1628640"/>
            <a:ext cx="3457440" cy="44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最后一段主要讲什么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276720" y="1341000"/>
            <a:ext cx="5410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（要是 ）没触着墙，不几天（就  ）萎了，后来连（痕迹）也没有了。触着墙的，细丝和小圆片（逐渐）变成灰色。不要（   瞧不起）那些灰色的脚，那些脚巴在墙上相当（牢固），（要是）你的手指不费一点儿劲，（休想 ）拉下爬山虎的一根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WordArt 4" descr=""/>
          <p:cNvPicPr/>
          <p:nvPr/>
        </p:nvPicPr>
        <p:blipFill>
          <a:blip r:embed="rId1"/>
          <a:stretch/>
        </p:blipFill>
        <p:spPr>
          <a:xfrm>
            <a:off x="385920" y="5580000"/>
            <a:ext cx="5373360" cy="9590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" descr="2008410103741771"/>
          <p:cNvPicPr/>
          <p:nvPr/>
        </p:nvPicPr>
        <p:blipFill>
          <a:blip r:embed="rId2"/>
          <a:stretch/>
        </p:blipFill>
        <p:spPr>
          <a:xfrm>
            <a:off x="250920" y="1341360"/>
            <a:ext cx="2795400" cy="35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叶圣陶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0" y="1483920"/>
            <a:ext cx="4114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叶圣陶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9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）原名叶绍钧，汉族人。字秉臣。江苏苏州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著名作家、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教育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编辑家、文学出版家和社会活动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img200809061619060"/>
          <p:cNvPicPr/>
          <p:nvPr/>
        </p:nvPicPr>
        <p:blipFill>
          <a:blip r:embed="rId2"/>
          <a:stretch/>
        </p:blipFill>
        <p:spPr>
          <a:xfrm>
            <a:off x="39528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71720" y="333000"/>
            <a:ext cx="769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想一想，作者为什么能把爬山虎的脚写得这样生动具体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276720" y="2204640"/>
            <a:ext cx="5688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作者首先进行了长时间的连续观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作者再（对爬山虎的叶子和脚）进行了细致的观察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2008410103741771"/>
          <p:cNvPicPr/>
          <p:nvPr/>
        </p:nvPicPr>
        <p:blipFill>
          <a:blip r:embed="rId1"/>
          <a:stretch/>
        </p:blipFill>
        <p:spPr>
          <a:xfrm>
            <a:off x="250920" y="1417680"/>
            <a:ext cx="2795400" cy="3564000"/>
          </a:xfrm>
          <a:prstGeom prst="rect">
            <a:avLst/>
          </a:prstGeom>
          <a:ln w="0">
            <a:noFill/>
          </a:ln>
        </p:spPr>
      </p:pic>
      <p:sp>
        <p:nvSpPr>
          <p:cNvPr id="572" name="WordArt 6"/>
          <p:cNvSpPr txBox="1"/>
          <p:nvPr/>
        </p:nvSpPr>
        <p:spPr>
          <a:xfrm>
            <a:off x="1187280" y="4941720"/>
            <a:ext cx="7315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uFillTx/>
                <a:latin typeface="宋体"/>
              </a:rPr>
              <a:t>学习课文后，你有什么体会或收获？</a:t>
            </a:r>
            <a:endParaRPr b="1" i="1" lang="en-US" sz="2400" spc="1" strike="noStrike" u="sng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叶圣陶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539280" y="1413000"/>
            <a:ext cx="8147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文名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叶圣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别名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原名 叶绍钧 字秉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籍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民族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汉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生地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江苏苏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生日期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逝世日期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职业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作家、教育家、社会活动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表作品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隔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线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倪焕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脚步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西川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稻草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5" descr="32bb9c8b071d53fcfd1f10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1557360"/>
            <a:ext cx="20876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听课文录音，思考与回答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6840" y="1773360"/>
            <a:ext cx="6923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从哪些词句可以看出来，这是作者经过了长时间的连续观察之后才写成的文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作者细致观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爬山虎的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5" descr="爬墙虎2"/>
          <p:cNvPicPr/>
          <p:nvPr/>
        </p:nvPicPr>
        <p:blipFill>
          <a:blip r:embed="rId1"/>
          <a:srcRect l="0" t="44809" r="0" b="0"/>
          <a:stretch/>
        </p:blipFill>
        <p:spPr>
          <a:xfrm>
            <a:off x="4284720" y="4581360"/>
            <a:ext cx="4464000" cy="19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学校操场北边墙上</a:t>
            </a:r>
            <a:r>
              <a:rPr b="0" lang="zh-CN" sz="3000" spc="-1" strike="noStrike">
                <a:solidFill>
                  <a:srgbClr val="ff3399"/>
                </a:solidFill>
                <a:latin typeface="Arial"/>
              </a:rPr>
              <a:t>满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是爬墙虎。我家也有爬山虎，从小院的西墙</a:t>
            </a:r>
            <a:r>
              <a:rPr b="0" lang="zh-CN" sz="3000" spc="-1" strike="noStrike">
                <a:solidFill>
                  <a:srgbClr val="ff3399"/>
                </a:solidFill>
                <a:latin typeface="Arial"/>
              </a:rPr>
              <a:t>爬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上去，在房顶上</a:t>
            </a:r>
            <a:r>
              <a:rPr b="0" lang="zh-CN" sz="3000" spc="-1" strike="noStrike">
                <a:solidFill>
                  <a:srgbClr val="ff3399"/>
                </a:solidFill>
                <a:latin typeface="Arial"/>
              </a:rPr>
              <a:t>占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了一大片地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4000" y="2494080"/>
            <a:ext cx="8002440" cy="36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5" descr="20091020143352_2062140593"/>
          <p:cNvPicPr/>
          <p:nvPr/>
        </p:nvPicPr>
        <p:blipFill>
          <a:blip r:embed="rId1"/>
          <a:stretch/>
        </p:blipFill>
        <p:spPr>
          <a:xfrm>
            <a:off x="684360" y="1916280"/>
            <a:ext cx="8064360" cy="4670280"/>
          </a:xfrm>
          <a:prstGeom prst="rect">
            <a:avLst/>
          </a:prstGeom>
          <a:ln w="0">
            <a:noFill/>
          </a:ln>
        </p:spPr>
      </p:pic>
      <p:sp>
        <p:nvSpPr>
          <p:cNvPr id="520" name="WordArt 6"/>
          <p:cNvSpPr txBox="1"/>
          <p:nvPr/>
        </p:nvSpPr>
        <p:spPr>
          <a:xfrm>
            <a:off x="2268360" y="364500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uFillTx/>
                <a:latin typeface="宋体"/>
              </a:rPr>
              <a:t>学校和我家都有爬山虎。</a:t>
            </a:r>
            <a:endParaRPr b="1" i="1" lang="en-US" sz="2400" spc="1" strike="noStrike" u="sng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uFillTx/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5" descr="202746"/>
          <p:cNvPicPr/>
          <p:nvPr/>
        </p:nvPicPr>
        <p:blipFill>
          <a:blip r:embed="rId1"/>
          <a:stretch/>
        </p:blipFill>
        <p:spPr>
          <a:xfrm>
            <a:off x="0" y="0"/>
            <a:ext cx="4762440" cy="68198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5977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爬山虎的叶子好看得很 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356000" y="1341000"/>
            <a:ext cx="478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爬山虎刚长出来的叶子是（         ）的，不几天叶子（     ），就变成（    ）的。爬山虎的嫩叶，不大引人注意，引人注意的是（           ）。那些叶子（     ），（         ）。叶尖一顺儿（     ），在墙上铺得（       ），没有（        ）的，也不留（             ）。一阵风拂过，一墙的叶子就（         ），（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183280" y="274320"/>
            <a:ext cx="396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爬山虎的叶子好看得很 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1844280"/>
            <a:ext cx="80643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刚长出来的叶子是（         ）的，不几天叶子（     ），就变成（    ）的。爬山虎的嫩叶，不大引人注意，引人注意的是（           ）。那些叶子（     ），（         ）。叶尖一顺儿（     ），在墙上铺得（       ），没有（        ）的，也不留（             ）。一阵风拂过，一墙的叶子就（         ），（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" descr="202746"/>
          <p:cNvPicPr/>
          <p:nvPr/>
        </p:nvPicPr>
        <p:blipFill>
          <a:blip r:embed="rId1"/>
          <a:stretch/>
        </p:blipFill>
        <p:spPr>
          <a:xfrm>
            <a:off x="0" y="38160"/>
            <a:ext cx="4762440" cy="68198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6" descr="343190preview2"/>
          <p:cNvPicPr/>
          <p:nvPr/>
        </p:nvPicPr>
        <p:blipFill>
          <a:blip r:embed="rId2"/>
          <a:stretch/>
        </p:blipFill>
        <p:spPr>
          <a:xfrm>
            <a:off x="4788000" y="1773360"/>
            <a:ext cx="38098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爬山虎的叶子好看得很 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539640" y="1844640"/>
            <a:ext cx="806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爬山虎刚长出来的叶子是（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嫩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）的，不几天叶子（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长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），就变成（  </a:t>
            </a:r>
            <a:r>
              <a:rPr b="0" lang="zh-CN" sz="2800" spc="-1" strike="noStrike">
                <a:solidFill>
                  <a:srgbClr val="9933ff"/>
                </a:solidFill>
                <a:latin typeface="Arial"/>
              </a:rPr>
              <a:t>嫩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）的。爬山虎的嫩叶，不大引人注意，引人注意的是（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长大了的叶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）。那些叶子（ </a:t>
            </a:r>
            <a:r>
              <a:rPr b="0" lang="zh-CN" sz="2800" spc="-1" strike="noStrike">
                <a:solidFill>
                  <a:srgbClr val="9933ff"/>
                </a:solidFill>
                <a:latin typeface="Arial"/>
              </a:rPr>
              <a:t>绿得那么新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，（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看着非常舒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）。叶尖一顺儿（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朝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），在墙上铺得（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那么均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），没有（  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重叠起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）的，也不留（  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一点儿空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）。一阵风拂过，一墙的叶子就（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漾起波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），（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好看得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182920" y="274320"/>
            <a:ext cx="380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爬山虎的叶子好看得很 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1844280"/>
            <a:ext cx="80643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刚长出来的叶子是（         ）的，不几天叶子（     ），就变成（    ）的。爬山虎的嫩叶，不大引人注意，引人注意的是（           ）。那些叶子（     ），（         ）。叶尖一顺儿（     ），在墙上铺得（       ），没有（        ）的，也不留（             ）。一阵风拂过，一墙的叶子就（         ），（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4" descr="202746"/>
          <p:cNvPicPr/>
          <p:nvPr/>
        </p:nvPicPr>
        <p:blipFill>
          <a:blip r:embed="rId1"/>
          <a:stretch/>
        </p:blipFill>
        <p:spPr>
          <a:xfrm>
            <a:off x="0" y="38160"/>
            <a:ext cx="4762440" cy="68198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343190preview2"/>
          <p:cNvPicPr/>
          <p:nvPr/>
        </p:nvPicPr>
        <p:blipFill>
          <a:blip r:embed="rId2"/>
          <a:stretch/>
        </p:blipFill>
        <p:spPr>
          <a:xfrm>
            <a:off x="4788000" y="1773360"/>
            <a:ext cx="38098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6:20:40Z</dcterms:created>
  <dc:creator/>
  <dc:description/>
  <dc:language>en-US</dc:language>
  <cp:lastModifiedBy>万润仪器贸易公司</cp:lastModifiedBy>
  <dcterms:modified xsi:type="dcterms:W3CDTF">2020-08-24T03:32:16Z</dcterms:modified>
  <cp:revision>7</cp:revision>
  <dc:subject/>
  <dc:title>爬山虎的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